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BB2-3133-480B-85FF-7FFFA6EB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C17-096C-4F1C-BD08-C97A416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484-C10E-4340-B1B7-285E1788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966-8FB9-47E3-B049-81927195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ADD-7F27-4BBD-A06C-E95B447C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9AE-1F61-4C14-B5EF-88A18443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C5D4-53ED-4062-BB1A-608BBA4E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EB1-A0A8-4051-960D-82BC176C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A911-11E7-4CEC-8656-EF0B85DA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4C28-6504-4C7E-8F06-615A853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21F6-4011-49F6-84A3-DF4379E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C9A-ABAE-4D12-A359-0BC7246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1D7-CAC8-4D7D-A780-C39BBDA1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A6F7-A2FC-4A78-91C1-8C4DDE4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702A-0615-47C4-9C9D-E12678F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033B-6716-44BA-A6E4-B0110958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34A-DB31-4322-BAC7-7C343273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8B3-452C-4304-B4D3-0BC7BD9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F2D-2B0E-41DF-93EC-05BDF29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76B-14F5-462F-82D2-557F322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D0D-783A-487D-8F6F-7565396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F34-96EB-4224-88A6-301BE5A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D97-F001-4120-AF50-26EF7AD4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DC1-8D8E-4095-9163-5E00589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DB8-CA48-4B76-A53F-68EBF4942DD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463-2C5A-472C-807C-9C055308484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Dec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54628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NAB Part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e-do the questions in NAB Part 1 that you need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ue in on Wednesday 16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Decembe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all aspects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 Performer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ge of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preparation for the NAB Part 2 re-sit which you will complet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DER EXAM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 Monday 1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January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dentify questions that need to be rep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 over NAB ques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 part 1 and 2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expected i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r answ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0360" y="4611600"/>
            <a:ext cx="320364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a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scribe the methods you used to identify your performance strengths and weaknesses. 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Observation sched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Video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Knowledge Of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bservation Schedu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Opening sent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o filled it ou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ere you playing a g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as it in the form of a t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id it have head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id it have set criteri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raw an example of what the schedule looked lik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at did the observer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Give examples of the info the O recor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ideo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Used a video recor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o was able to watch your performa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does this benefit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ere you playing a ga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are you able to do when watching a video of yoursel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Used in conjunction with schedu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s the info recorded accur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xplain why these methods are appropriate. (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ermanent record – how does having a permanent record benefit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Compare to a model performer (give examp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Valid and reliable ( see work bookl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Sport specif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 a result of analysing your data give a detailed explanation of your strengths and weakn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Gain general (whole performance) and specific (skill/ technique) strengths and weakn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Comic Sans MS"/>
              </a:rPr>
              <a:t>Consideration of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strengths did you identify and how did this affect your whole game performance? EXAMPLES!!!!!!!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peat for weakn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peat this for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Comic Sans MS"/>
              </a:rPr>
              <a:t>movement analysi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focusing on one specific skill –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Overhead Clear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s a result of analysing your data give a detailed explanation of your development needs.  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in weakness – Name skill (overhead clear). Your development needs are within this i.e. what are your weaknesses within the overhead cle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OVEMENT ANALYSIS SCHEDU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are you not doing well and how is it affecting your overhead cle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09-12-11T11:14:00Z</dcterms:modified>
  <cp:revision>54</cp:revision>
  <dc:subject/>
  <dc:title>Slide 1</dc:title>
</cp:coreProperties>
</file>